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A2AE0-A7D6-49BA-91A1-4D79FE2C58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A4AA7-E84E-4265-8F94-A1DFF498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2380E-D7AE-4289-92B1-704D4C82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6A97C-E2F3-44DD-912E-0807CE6DF8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3DA66-144A-477C-A90C-33D89074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EB9A5-05F2-41DF-8366-78A50104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EBD7A-D426-420D-A509-B08C9AB9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C0588-3EEE-49D7-ABD9-482174CB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1928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A4982-BF9C-49C5-8017-BBC56D10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C32D4-6E8C-415D-B090-DEBF7E89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87356-C01B-4EFC-B77C-B3B0F5D6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DD103-D02A-4865-B734-5718BBE2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6430-50F0-41BB-84E2-6DE80DC2D9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-1440" y="52560"/>
            <a:ext cx="720720" cy="431640"/>
            <a:chOff x="-1440" y="52560"/>
            <a:chExt cx="720720" cy="431640"/>
          </a:xfrm>
        </p:grpSpPr>
        <p:sp>
          <p:nvSpPr>
            <p:cNvPr id="45" name=""/>
            <p:cNvSpPr/>
            <p:nvPr/>
          </p:nvSpPr>
          <p:spPr>
            <a:xfrm>
              <a:off x="4320" y="52560"/>
              <a:ext cx="714960" cy="25164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45" y="18"/>
                  </a:moveTo>
                  <a:lnTo>
                    <a:pt x="55" y="23"/>
                  </a:lnTo>
                  <a:cubicBezTo>
                    <a:pt x="60" y="24"/>
                    <a:pt x="65" y="27"/>
                    <a:pt x="69" y="29"/>
                  </a:cubicBezTo>
                  <a:cubicBezTo>
                    <a:pt x="79" y="43"/>
                    <a:pt x="83" y="49"/>
                    <a:pt x="99" y="41"/>
                  </a:cubicBezTo>
                  <a:cubicBezTo>
                    <a:pt x="106" y="36"/>
                    <a:pt x="113" y="31"/>
                    <a:pt x="121" y="26"/>
                  </a:cubicBezTo>
                  <a:cubicBezTo>
                    <a:pt x="121" y="25"/>
                    <a:pt x="121" y="23"/>
                    <a:pt x="121" y="22"/>
                  </a:cubicBezTo>
                  <a:cubicBezTo>
                    <a:pt x="114" y="26"/>
                    <a:pt x="107" y="30"/>
                    <a:pt x="100" y="34"/>
                  </a:cubicBezTo>
                  <a:cubicBezTo>
                    <a:pt x="98" y="35"/>
                    <a:pt x="96" y="35"/>
                    <a:pt x="94" y="34"/>
                  </a:cubicBezTo>
                  <a:cubicBezTo>
                    <a:pt x="87" y="24"/>
                    <a:pt x="81" y="14"/>
                    <a:pt x="74" y="5"/>
                  </a:cubicBezTo>
                  <a:cubicBezTo>
                    <a:pt x="67" y="0"/>
                    <a:pt x="65" y="0"/>
                    <a:pt x="57" y="3"/>
                  </a:cubicBezTo>
                  <a:cubicBezTo>
                    <a:pt x="38" y="15"/>
                    <a:pt x="19" y="27"/>
                    <a:pt x="0" y="39"/>
                  </a:cubicBezTo>
                  <a:cubicBezTo>
                    <a:pt x="0" y="41"/>
                    <a:pt x="0" y="42"/>
                    <a:pt x="0" y="44"/>
                  </a:cubicBezTo>
                  <a:cubicBezTo>
                    <a:pt x="20" y="31"/>
                    <a:pt x="20" y="31"/>
                    <a:pt x="52" y="12"/>
                  </a:cubicBezTo>
                  <a:cubicBezTo>
                    <a:pt x="57" y="12"/>
                    <a:pt x="58" y="13"/>
                    <a:pt x="61" y="17"/>
                  </a:cubicBezTo>
                  <a:cubicBezTo>
                    <a:pt x="61" y="17"/>
                    <a:pt x="61" y="18"/>
                    <a:pt x="60" y="18"/>
                  </a:cubicBezTo>
                  <a:cubicBezTo>
                    <a:pt x="55" y="17"/>
                    <a:pt x="51" y="17"/>
                    <a:pt x="45" y="18"/>
                  </a:cubicBezTo>
                  <a:close/>
                </a:path>
              </a:pathLst>
            </a:custGeom>
            <a:solidFill>
              <a:srgbClr val="52a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440" y="150120"/>
              <a:ext cx="720720" cy="241200"/>
            </a:xfrm>
            <a:custGeom>
              <a:avLst/>
              <a:gdLst/>
              <a:ahLst/>
              <a:rect l="l" t="t" r="r" b="b"/>
              <a:pathLst>
                <a:path w="122" h="47">
                  <a:moveTo>
                    <a:pt x="56" y="3"/>
                  </a:moveTo>
                  <a:lnTo>
                    <a:pt x="54" y="1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6" y="0"/>
                  </a:lnTo>
                  <a:cubicBezTo>
                    <a:pt x="31" y="10"/>
                    <a:pt x="15" y="20"/>
                    <a:pt x="0" y="30"/>
                  </a:cubicBezTo>
                  <a:cubicBezTo>
                    <a:pt x="0" y="32"/>
                    <a:pt x="0" y="34"/>
                    <a:pt x="0" y="35"/>
                  </a:cubicBezTo>
                  <a:cubicBezTo>
                    <a:pt x="12" y="28"/>
                    <a:pt x="24" y="20"/>
                    <a:pt x="36" y="13"/>
                  </a:cubicBezTo>
                  <a:cubicBezTo>
                    <a:pt x="37" y="12"/>
                    <a:pt x="38" y="12"/>
                    <a:pt x="40" y="13"/>
                  </a:cubicBezTo>
                  <a:cubicBezTo>
                    <a:pt x="52" y="23"/>
                    <a:pt x="54" y="40"/>
                    <a:pt x="70" y="46"/>
                  </a:cubicBezTo>
                  <a:cubicBezTo>
                    <a:pt x="73" y="47"/>
                    <a:pt x="75" y="46"/>
                    <a:pt x="77" y="45"/>
                  </a:cubicBezTo>
                  <a:cubicBezTo>
                    <a:pt x="93" y="37"/>
                    <a:pt x="107" y="26"/>
                    <a:pt x="122" y="16"/>
                  </a:cubicBezTo>
                  <a:cubicBezTo>
                    <a:pt x="122" y="15"/>
                    <a:pt x="122" y="13"/>
                    <a:pt x="122" y="11"/>
                  </a:cubicBezTo>
                  <a:cubicBezTo>
                    <a:pt x="108" y="18"/>
                    <a:pt x="96" y="29"/>
                    <a:pt x="82" y="35"/>
                  </a:cubicBezTo>
                  <a:cubicBezTo>
                    <a:pt x="80" y="36"/>
                    <a:pt x="79" y="36"/>
                    <a:pt x="78" y="35"/>
                  </a:cubicBezTo>
                  <a:cubicBezTo>
                    <a:pt x="72" y="25"/>
                    <a:pt x="65" y="15"/>
                    <a:pt x="59" y="6"/>
                  </a:cubicBezTo>
                  <a:cubicBezTo>
                    <a:pt x="58" y="6"/>
                    <a:pt x="58" y="5"/>
                    <a:pt x="58" y="5"/>
                  </a:cubicBezTo>
                  <a:cubicBezTo>
                    <a:pt x="58" y="5"/>
                    <a:pt x="56" y="3"/>
                    <a:pt x="56" y="3"/>
                  </a:cubicBezTo>
                  <a:close/>
                </a:path>
              </a:pathLst>
            </a:custGeom>
            <a:solidFill>
              <a:srgbClr val="008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1440" y="242640"/>
              <a:ext cx="720720" cy="241560"/>
            </a:xfrm>
            <a:custGeom>
              <a:avLst/>
              <a:gdLst/>
              <a:ahLst/>
              <a:rect l="l" t="t" r="r" b="b"/>
              <a:pathLst>
                <a:path w="122" h="47">
                  <a:moveTo>
                    <a:pt x="54" y="45"/>
                  </a:moveTo>
                  <a:cubicBezTo>
                    <a:pt x="51" y="43"/>
                    <a:pt x="49" y="42"/>
                    <a:pt x="47" y="40"/>
                  </a:cubicBezTo>
                  <a:cubicBezTo>
                    <a:pt x="37" y="26"/>
                    <a:pt x="26" y="19"/>
                    <a:pt x="9" y="24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1" y="21"/>
                    <a:pt x="14" y="20"/>
                    <a:pt x="16" y="18"/>
                  </a:cubicBezTo>
                  <a:cubicBezTo>
                    <a:pt x="19" y="17"/>
                    <a:pt x="28" y="17"/>
                    <a:pt x="31" y="18"/>
                  </a:cubicBezTo>
                  <a:cubicBezTo>
                    <a:pt x="28" y="14"/>
                    <a:pt x="28" y="13"/>
                    <a:pt x="22" y="13"/>
                  </a:cubicBezTo>
                  <a:cubicBezTo>
                    <a:pt x="15" y="17"/>
                    <a:pt x="8" y="21"/>
                    <a:pt x="0" y="26"/>
                  </a:cubicBezTo>
                  <a:cubicBezTo>
                    <a:pt x="0" y="24"/>
                    <a:pt x="1" y="22"/>
                    <a:pt x="1" y="20"/>
                  </a:cubicBezTo>
                  <a:cubicBezTo>
                    <a:pt x="10" y="14"/>
                    <a:pt x="19" y="8"/>
                    <a:pt x="28" y="3"/>
                  </a:cubicBezTo>
                  <a:cubicBezTo>
                    <a:pt x="36" y="0"/>
                    <a:pt x="37" y="1"/>
                    <a:pt x="45" y="5"/>
                  </a:cubicBezTo>
                  <a:cubicBezTo>
                    <a:pt x="51" y="14"/>
                    <a:pt x="58" y="24"/>
                    <a:pt x="65" y="34"/>
                  </a:cubicBezTo>
                  <a:cubicBezTo>
                    <a:pt x="66" y="35"/>
                    <a:pt x="67" y="35"/>
                    <a:pt x="71" y="34"/>
                  </a:cubicBezTo>
                  <a:cubicBezTo>
                    <a:pt x="121" y="3"/>
                    <a:pt x="121" y="3"/>
                    <a:pt x="122" y="2"/>
                  </a:cubicBezTo>
                  <a:cubicBezTo>
                    <a:pt x="122" y="5"/>
                    <a:pt x="122" y="7"/>
                    <a:pt x="122" y="9"/>
                  </a:cubicBezTo>
                  <a:cubicBezTo>
                    <a:pt x="106" y="18"/>
                    <a:pt x="106" y="18"/>
                    <a:pt x="68" y="42"/>
                  </a:cubicBezTo>
                  <a:cubicBezTo>
                    <a:pt x="63" y="46"/>
                    <a:pt x="60" y="47"/>
                    <a:pt x="54" y="45"/>
                  </a:cubicBezTo>
                  <a:close/>
                </a:path>
              </a:pathLst>
            </a:custGeom>
            <a:solidFill>
              <a:srgbClr val="194b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28720" y="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71640" y="476280"/>
            <a:ext cx="174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GÊNCIA NACIONAL DE ÁGU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8000" y="2881080"/>
            <a:ext cx="121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482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COMISSÃO DE ACOMPANHAMENTO DOS CONTRATOS DE GEST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36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ATO DE GESTÃO ANA AGEV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62280" y="1104840"/>
            <a:ext cx="48006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E PRODUTOS PARA A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8120" y="3886200"/>
            <a:ext cx="72396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23814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TOS IMPORT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33400" y="3352680"/>
            <a:ext cx="546768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RELATÓRIO ANUAL DE GESTÃ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RELATÓRIO COM SUBSÍDIOS À REGUL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ANUAL DE INVESTIMENTOS 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DA COBRANÇ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62040" y="182880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2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162920" cy="81900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1219320"/>
            <a:ext cx="53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O PROGRAMA DE TRABAL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33280" y="1968480"/>
            <a:ext cx="8663040" cy="412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47880" y="781200"/>
            <a:ext cx="6458040" cy="101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LENDÁRIO DE TRABAL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VISÃO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2362320"/>
            <a:ext cx="459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0/03 – 1ª Reunião – Texto + conce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0/04 – 2ª Reunião – Texto + 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9933"/>
                </a:solidFill>
                <a:latin typeface="Arial"/>
              </a:rPr>
              <a:t>10/05 – Avaliação AGEVAP (CA+Loba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9933"/>
                </a:solidFill>
                <a:latin typeface="Arial"/>
              </a:rPr>
              <a:t>25/05 – 3ª Reunião – Fechamento m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5360" y="4552920"/>
            <a:ext cx="72396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01680" y="4815000"/>
            <a:ext cx="5658120" cy="144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02/06 – Oficina CEIVAP / AGE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14/06 – Discussão ANA / CT IL CEI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28/06 – Plenária do CEI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9080" y="3219480"/>
            <a:ext cx="445752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É 10/05 – APRECIAÇÃO DIRE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482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COMISSÃO DE ACOMPANHAMENTO DOS CONTRATOS DE GEST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36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RIG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7960" y="685800"/>
            <a:ext cx="8609040" cy="59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ÊNCIA E COBRANÇ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38760" y="1351080"/>
            <a:ext cx="4038480" cy="2819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3080" y="1390680"/>
            <a:ext cx="426708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ÍCIO ATIVIDADES 1° SET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3 –  5,9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5,4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4 –  6,3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,6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5 –  5,9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,2 REPAS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6 –  1,7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EM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CIMENTO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25 MARÇ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RROGAÇÃO 31 D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SÃO CONT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048280"/>
            <a:ext cx="3676680" cy="105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EVISÃO DO CONTRATO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GT CACG + AGEVAP +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52920" y="5181480"/>
            <a:ext cx="459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03 – 1ª Reunião – Texto + conce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/04 – 2ª Reunião – Texto + 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4743360"/>
            <a:ext cx="72396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PROCES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257640"/>
            <a:ext cx="352440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LANO DE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SISTEMA DE INFORMAÇÕ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VESTI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DMINISTRAÇÃO INTER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43360" y="23623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3800" y="3168720"/>
            <a:ext cx="1486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0     2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7,6   8,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    7,6    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10   1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6760" y="234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97720" y="3137040"/>
            <a:ext cx="2546280" cy="287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LANO EM REVIS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STEMA NO SI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EFICI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257640"/>
            <a:ext cx="398160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ADASTRO DE USUÁ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ONTRATAÇÃO DE OB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PLICAÇÃO RECUR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SUSTENTABILIDADE FINANC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43360" y="23623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3800" y="316872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0    N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Font typeface="Arial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 2,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,9   6,6   8,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 10    1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16760" y="234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92760" y="3137040"/>
            <a:ext cx="2451240" cy="287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CONSIDE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A C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TENDI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EFETIV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619440"/>
            <a:ext cx="3086280" cy="2037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VISIBIL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ARCE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43360" y="23623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1960" y="3606840"/>
            <a:ext cx="163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,3    7,9   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,3    9,5   7,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3,8    3,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16760" y="234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3594240"/>
            <a:ext cx="1650960" cy="203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U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62280" y="1104840"/>
            <a:ext cx="4800600" cy="785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° DE JULHO DE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1800" y="291456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CG - 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7680" y="3962520"/>
            <a:ext cx="3181320" cy="2037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JOÃO LUIZ - S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ARLY TERRELL - SP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ILTON CESÁRIO - A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ATRICK - S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WILDE - S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292104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35440" y="3645000"/>
            <a:ext cx="495288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NDREA FRANCOMANO – CA/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PARECIDA VARGAS – SEC EXECU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HELOISE BRANT – CA/IG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HENDRIK MANSUR – COORD.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JOÃO JERÔNIMO - DIRE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ARILENE RAMOS – CA/SER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ATRÍCIA BOSON – CA/FIEM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47840" y="224784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QUIPE DE NEGOCI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120" y="-360"/>
            <a:ext cx="74674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314360"/>
            <a:ext cx="82486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DEFINIÇÃO OBJETIVA DE ATRIBUIÇÕES DA AGEV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52520" y="3733920"/>
            <a:ext cx="645804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PLIFICADO PROCESSO DE SELEÇÃO DE PESSO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5048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BRICA ÚNICA PARA O REPAS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62080" y="6000840"/>
            <a:ext cx="742932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SE MENSAL SEM CRONO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0280" y="302904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IRADA LIMITAÇÃO SALARIAL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3680" y="2197080"/>
            <a:ext cx="78674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ÇÃO OBJETIVA DAS ATRIBUIÇÕES DA 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257960" cy="81900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A EFICIÊNCIA E DA EFETIV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00240" y="190512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2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87400" y="2457360"/>
            <a:ext cx="5639040" cy="413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A EFICIÊNCIA E DA EFETIV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886200"/>
            <a:ext cx="72396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ÉRIOS PARA EFICI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2933640"/>
            <a:ext cx="3676680" cy="370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FORMAÇÕES DISPONÍ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FORMAÇÕES ATUALIZ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TEMPO DE APLICAÇÃO R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R$ COBRANÇA / DBO ABA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ONTUALIDADE CONTRA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236844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ÉRIOS PARA EFETIV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73480" y="2959200"/>
            <a:ext cx="3676680" cy="1202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ONSULTAS À PÁG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PELO COMIT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00240" y="190512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2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2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25:47Z</dcterms:created>
  <dc:creator>Bolivar Antunes Matos</dc:creator>
  <dc:description/>
  <dc:language>en-US</dc:language>
  <cp:lastModifiedBy>wilde</cp:lastModifiedBy>
  <dcterms:modified xsi:type="dcterms:W3CDTF">2006-05-11T13:52:40Z</dcterms:modified>
  <cp:revision>818</cp:revision>
  <dc:subject>Apresentação do Dr. Oscar Cordeiro Netto</dc:subject>
  <dc:title>Água: um problema de segurança aliment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2435130</vt:r8>
  </property>
  <property fmtid="{D5CDD505-2E9C-101B-9397-08002B2CF9AE}" pid="3" name="_AuthorEmail">
    <vt:lpwstr>flavia.barros@ana.gov.br</vt:lpwstr>
  </property>
  <property fmtid="{D5CDD505-2E9C-101B-9397-08002B2CF9AE}" pid="4" name="_AuthorEmailDisplayName">
    <vt:lpwstr>Flavia Gomes de Barros</vt:lpwstr>
  </property>
  <property fmtid="{D5CDD505-2E9C-101B-9397-08002B2CF9AE}" pid="5" name="_EmailSubject">
    <vt:lpwstr>apresentação</vt:lpwstr>
  </property>
  <property fmtid="{D5CDD505-2E9C-101B-9397-08002B2CF9AE}" pid="6" name="_PreviousAdHocReviewCycleID">
    <vt:r8>376229889</vt:r8>
  </property>
  <property fmtid="{D5CDD505-2E9C-101B-9397-08002B2CF9AE}" pid="7" name="_ReviewingToolsShownOnce">
    <vt:lpwstr/>
  </property>
</Properties>
</file>